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BC3-D022-40BE-A992-58971DC3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8F-62B8-4F52-99DA-B6A1A7F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255F3-17ED-4AB9-96CF-AC06026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0FB98-060F-43F8-BE0E-FDE62633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228E-1840-4578-98E6-74C3F1E3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6E33-FAB8-43FC-8455-DCEC6B8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B8738-0CBB-4BB9-9798-FCAC250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AA90D-D6EC-424A-9487-C1DC3EC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9A92-873D-4664-8FB1-A2C9FB6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6303-3FBE-481B-BBFB-7524FA4C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ABF0C-4966-4C05-B1EB-5AEA5E14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DE54F-514A-4D53-8261-E5FD6800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B3D-E173-4F13-A20D-5E3E0151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7E00-F4D3-4C82-9C1D-97D11ED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FE006-3530-4C19-8698-13ECBDD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98CDA-6498-429B-AD92-B4D09AC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41114-F36A-4F75-A951-FBD224E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BDC49-43E6-4954-9F28-C714ECE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3F8B7-AA0D-4919-B726-739C654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EED09-D5CF-4112-9E29-C5A9D79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D0781-D816-4C1E-8C11-62C791B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0353E-7094-4A15-A2BA-CA9C700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78199-FE34-4AA5-8E81-C90C6E3B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529-CF94-4603-B026-0BEC79E7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323F9-2F21-4FD0-BF30-380DBAE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C6CFB-DE19-437D-9EBB-0FA18383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A81F-C38E-41AA-BD53-5131763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ED5A6-E44D-4191-8033-F6950E5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51E44-D95A-425A-B7A1-5BD40D42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A19ED-42AD-41BE-906A-BCF2FEB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AAE04-D257-4A82-9E74-34C68F6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931A-2664-4902-914A-9F06E0D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E3E5C-633D-492C-A98C-31B7999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E0D3-6584-41AF-A338-DE86463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583-17FB-4B12-9A30-5B5CACC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067D1-63E7-422C-B6BB-73C2F2C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28CE-3C1A-4596-8F2E-F45253DF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D5FD4-BCF6-4391-A077-9C6977AE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90069-AAF2-484B-8768-C3A5ACB8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BB6E8-0D79-4CD1-9122-3A9A21B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6DA4-1AAD-4554-9DF3-1EB9EB6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3EA12-7A13-4422-9A8E-4159C986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C3073-40CD-4556-BBB5-19A08CC3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A7C2-AEF9-49D7-8078-EBD450A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4DE71-5B3D-422B-B9A8-F2BCBDA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D2F4-392C-4E00-9D3B-3B8649A9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7389D-9343-48FC-8102-F314094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B17AF-C3F6-4EC4-ABC1-0AA79D5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B3145-3B3D-49A9-A4D5-ECE00B07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759EA-0813-49FE-98F2-611037CA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27406-CD7D-4C0C-A22D-37273CF8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C87E-5FFA-4530-A05B-729FFA2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025-608C-43EC-9CF8-26B4B95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5413-B6FD-4EF8-954E-B648AA9A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F5A-7839-4622-B236-D4AF3FD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DC7-A143-4FD7-8083-3EA84F9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68F-CEB9-42C8-B728-7102398E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58A5-94E1-4A4E-830C-D049886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443-5F5F-460A-9C78-891BD86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590-A551-425B-99C2-98B06D2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B055-B536-4472-8575-7CF6EF52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BEB-7094-4FBA-99E0-4D07EFA3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69A7-A636-482B-9948-2D48D7B0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578D-6B05-4484-8273-B0469B3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7A3D-371B-434C-A139-9A5390B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7917-8860-4F27-BB76-0F1BDBF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3CED-DE1E-4DE9-92A1-38265D4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3AB-80FE-4695-B1A2-8C4E4409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6BA1-671C-4703-A521-4441438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B51A-F82A-468B-8B92-43B43A7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5D60-3F0F-403E-8FD2-0F53EF9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FAEC-4AC7-4E85-9264-BD014C8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C8C6-3B13-41DB-A9E1-1292A8B4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8270-6669-4E39-8267-FDB13F11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28BB-CEE2-4B32-8FC7-696DBFA5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140F-675B-4939-B99C-10A558AA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47BB-A6D0-4E1C-8120-0B0BF52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2B0D-74E1-4533-B473-F664B97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0D5-CF10-487C-ACE4-82347E6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A311-D965-4235-A338-A2204B1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50D2-00DB-4884-92A2-608FF1B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2239-48D4-430B-AE35-618E86A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02B1-67EF-40FB-9D34-44073D60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8F58-4ACD-47CB-9F72-3E26AE9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1FD0-1A6A-46CE-BCCF-55240C7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74A8-7490-4367-B143-E213EC4D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1750-04C3-43DB-A564-934258F3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D1E6-62E4-4FF9-9805-3903ADAC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C6B8-0B3A-4BB3-931B-BCC388B2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326-D91F-4921-96F9-E5522C2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A8398-6E93-4CC2-A160-762BDBA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CE3A-B48D-4475-A7A3-2D954C5B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519A-A6AF-422B-9B11-0006F974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A694-23BD-40A7-BF3C-EFA8315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F4D5-15DC-49C1-9DD4-6EE7D6F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A0AE-D7BB-4C11-B308-3F36B79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FE7E2-186C-4041-96C0-CF7D1E4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9460-D9FB-4C67-8EA9-2353FA8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8081-1ADD-4194-91C6-D832D4E7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B1C8-DE85-4496-A277-E731A5A4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A20-E8B0-4557-AE19-C80E13F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542C-753A-4C4B-BA87-77CC2801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287E6-5EE9-4FC5-95AE-1F941EEE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EEFA-8D79-44F7-A9AC-86E2FB4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270D-5541-45F9-B0D4-B29E6B4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2170-27BF-4170-A6B3-C9D10089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B1A8-F564-49F9-A345-BD913299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2F8D-3289-46C2-81A2-17F6A3F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0AC72-DEC6-4F47-A4D5-9F73C01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6B6C-1FCF-4745-BC96-FD56D25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CBB6-70CC-48DF-87BD-4A0CFA5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E13-F6A7-4959-A76E-98DBFE0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0E9F1-440C-4DAF-B71F-04E2BB1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C607-2B67-4652-8A09-EC3FF0C5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35F0-6595-4A7A-B725-53B62A01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5A01-3D79-40E6-9B76-7A9BC3FA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79D0-71D3-49CD-818C-17BF0F0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F413E-C031-4F2B-B319-D8B2BA0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E5C79-85C9-4D23-8778-F8BC5DB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590CB-364A-4E6E-9DCD-C238B93C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2C50-22DC-4F5C-AD83-9C108A4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30AA5-ECE2-486C-BACD-E11C731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CB1-4EE8-41FC-91E7-A305987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89F37-0609-4CF4-B93A-1EEBD57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357C-D073-417E-B556-6F7F368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D0B3-1159-4223-BF46-46667924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8061F-B7D8-4F10-814B-37F0253A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193A-BC58-4941-8220-010CB0C5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94026-CA3C-44D5-96E0-B225CC8A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6980-E6F4-4E4B-8CBC-9A64BBE3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1BE58-5F7F-4B58-9BE6-C627FD9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70BC-8F93-4B85-9B3A-576910BE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9F3B2-6E61-4272-ABE4-3DDF7C8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9CB-ECAA-43C7-89A9-368BACB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6692-0D4E-4989-B02C-5004D84C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5416-F747-485C-AD34-36290CB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91B7-C075-415C-A32B-EA8E24D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6573-AE81-47A1-8DB0-923A8AE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893EC-8029-49C4-ADC9-A9F0729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2C30-43A2-4C87-A230-3CDBAFBC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80B5F-918A-4CEC-AFAF-BB3DC7D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4B817-460C-4DB0-A70A-54261C65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9BD53-6548-41EE-9F8F-35B9B1E6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0665-A467-46FD-B841-E873E49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CBF-F3C1-4980-A6F7-C66E6DAC4F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BB0-18FA-472B-96CE-D9A19FAF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98E-8CA5-421B-B328-84E05C8ABB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131-C1C5-45E7-9B0D-7CFCB153B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1D5B-69F0-488D-B9BF-8A3F802E54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814-7664-4823-874A-B0EC32E8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ACD-9326-46E3-9411-C228A1CBFC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711D-6717-408B-9036-576E3487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68A-C22A-454F-A01A-2BE63CC18E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3334-7802-43AB-AD21-0CB7CD08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A934-8A60-4438-A9E2-C8B5D9CA39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3C9E-2215-40BE-9AF0-BCB704299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E56B-1E9B-400C-86FF-004619C29A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40F-F31C-4557-BB87-A84C8D4D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2253-F6DC-40FB-A9EE-5285CC750A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268-4D60-40BF-ABA6-A46AB7659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7CD-9127-4B7E-A295-57833E5F58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E45D-C05E-4FDF-A4F6-C95102EF1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BF7A-FEAC-46D9-9523-F8DD3B8DAF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5A0-EE4C-455A-A6C0-FBFB509E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980-80B0-44DC-B1D6-E0F81F5E95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957B-AA4C-41D2-97BE-86E7F861F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7E5B-48F4-4BEF-B7F6-F1F10695D5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FB1-E69C-47B4-B73B-62AFD5491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se two biomes have summer, fall, winter, and spr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rassland and temperate deciduous fore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biome has cacti with waxy exteriors and sharp thorns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biome has trees with long pointed leaves that shed wa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biome has plants like grass, moss, and lichens but NO tree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s biome has trees whose leaves change color and fall off in autumn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Temperate deciduous fores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This biome is hot in the day and cold at night.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ese two biomes have evergreen trees with needles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aiga and Temperate Rainforest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biome has animals that are mostly nocturna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aptations like large ears and short fur help animals survive in this biom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daptations like thick fur and small ears help organisms survive in this biom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trait that helps an organism survive in its environment is called this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657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animal would survive best in this bio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1574640"/>
            <a:ext cx="3962520" cy="528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another name for a living th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ll organisms are made of thes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This is the word scientist use to refer to a parent’s children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ese 3 things are the goals of an organism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o grow, develop, and reproduc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biome has permafrost and long cold winter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An organism needs these four things to survive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od, water, living space, and stable internal condition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Scientist call the process of maintaining internal conditions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is the process plants use to make food from sunlight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This is the process organisms use to break sugar down into energ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his is another word for an autotroph that can make its own food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Tundra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ese organisms get their energy from consuming dead organism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is biome gets lots of precipitation and is warm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opical rainfor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This biome is cool and gets lots of precipitation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Temperate rainfor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0:39:16Z</dcterms:created>
  <dc:creator>Eleanor M. Savko</dc:creator>
  <dc:description/>
  <dc:language>en-US</dc:language>
  <cp:lastModifiedBy>Caroline Roth</cp:lastModifiedBy>
  <dcterms:modified xsi:type="dcterms:W3CDTF">2010-10-05T11:08:56Z</dcterms:modified>
  <cp:revision>47</cp:revision>
  <dc:subject/>
  <dc:title>Blank Jeopardy</dc:title>
</cp:coreProperties>
</file>